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F93-7802-4882-A7B6-CCFC9A8A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D81-76B1-438F-B608-2CB54A21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F8D-CCB7-4C29-9197-CEE0D3B6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9F5-338A-449D-A48C-C0B63E7C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2A3-F00F-4B95-A830-3AA65EB9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E4F8-0FF8-4929-9D9A-137E63DF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66A9-5C42-4F27-AFD5-506659CA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29DA-0B83-4882-BB0F-3724946E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4274-E683-4D2F-880B-ADE20E74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D0BB-ACBB-4123-84B9-55A786A5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ECB0-A993-4994-A295-D961F4B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54D-C1D9-4510-8382-650E6ECB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3A32-FF7F-4116-A60F-481DD0C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07AB-7165-40D9-B025-8D94B415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AD8E-1499-41D4-ABF5-2110813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F929-FE2F-4C00-B188-ADBB720E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DB09-CC2C-4D52-8CCE-EA30CD75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943-7CB4-4D93-906A-F4BF56B3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806-E1E0-42A9-9B1E-8C8EF3D3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0A7-35A4-4928-8EF4-A7A5EF4D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7CC-3DF3-4112-9EAD-D5DE8B60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C04-0285-4DF9-A4EA-8C3B0CF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304-12D9-4CF9-AD14-FA623502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7D9-6191-431A-B441-C5D52CAE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E60C-468F-4092-A1D1-C14336777D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B196-04F1-415B-9454-18CDF787DB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Mi man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Por~Carolyn Kle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2895480" cy="19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791320" y="152280"/>
            <a:ext cx="2438280" cy="13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La Ga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ristina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Pristina"/>
              </a:rPr>
              <a:t>Es una graje. La garaje es muy fabulo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334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La </a:t>
            </a:r>
            <a:r>
              <a:rPr b="0" lang="en-US" sz="3400" spc="-1" strike="noStrike">
                <a:solidFill>
                  <a:srgbClr val="000000"/>
                </a:solidFill>
                <a:latin typeface="Castellar"/>
              </a:rPr>
              <a:t>mans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doni MT Condensed"/>
              </a:rPr>
              <a:t>Es una mansió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doni MT Condensed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Bodoni MT Condensed"/>
              </a:rPr>
              <a:t>mansión</a:t>
            </a:r>
            <a:r>
              <a:rPr b="0" lang="en-US" sz="3200" spc="-1" strike="noStrike">
                <a:solidFill>
                  <a:srgbClr val="000000"/>
                </a:solidFill>
                <a:latin typeface="Bodoni MT Condensed"/>
              </a:rPr>
              <a:t> es muy grande y muy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1654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doni MT"/>
              </a:rPr>
              <a:t>La Co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Es una cocina.La cocina es bella y nue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7148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La Ba</a:t>
            </a:r>
            <a:r>
              <a:rPr b="0" lang="en-US" sz="4400" spc="-1" strike="noStrike">
                <a:solidFill>
                  <a:srgbClr val="000000"/>
                </a:solidFill>
                <a:latin typeface="Curlz MT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Es una ba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Arial"/>
              </a:rPr>
              <a:t>ñ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a ba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Arial"/>
              </a:rPr>
              <a:t>ño es muy luj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Arial"/>
              </a:rPr>
              <a:t>No es pequeñ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50292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Elephant"/>
              </a:rPr>
              <a:t>La Cuar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Es una cuarto. La cuarto es magn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fic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estup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7628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gi"/>
              </a:rPr>
              <a:t>Es una sal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gi"/>
              </a:rPr>
              <a:t>La sala es muy fabul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4104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La Com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Es una comedo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La comedor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neuva y b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3434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La Pat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rint MT Shad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Imprint MT Shadow"/>
              </a:rPr>
              <a:t>Es una patio. La patio bonita y muy  luj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3341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nch Script MT"/>
              </a:rPr>
              <a:t>La Jard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elix Titling"/>
              </a:rPr>
              <a:t>Es una</a:t>
            </a: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elix Titling"/>
              </a:rPr>
              <a:t>jarden. La jarden es muy bon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Felix Titling"/>
              </a:rPr>
              <a:t>No es antigu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286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5:07Z</dcterms:created>
  <dc:creator>kleppercar</dc:creator>
  <dc:description/>
  <dc:language>en-US</dc:language>
  <cp:lastModifiedBy>kleppercar</cp:lastModifiedBy>
  <dcterms:modified xsi:type="dcterms:W3CDTF">2013-04-04T15:57:20Z</dcterms:modified>
  <cp:revision>5</cp:revision>
  <dc:subject/>
  <dc:title>Ma Casa</dc:title>
</cp:coreProperties>
</file>